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070-1D18-44B4-BC29-022C2D0C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714-8920-4F58-8EA9-D67CF85C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A15-E195-4E07-ADC6-9C441BB6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2A8-8044-4AAC-88D0-53DB355B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AED-1DFB-4C17-A837-4329E757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6BD-F861-4C3B-B8F4-08C82AB5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2A7-6DFB-4735-AF12-170A434D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B28-DA9D-4C9C-8D9E-F74778E7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CF1-5824-46DC-81C2-C2EDC666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CD1-1EE7-4476-BA1D-1FFA9C2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772-8878-4424-ABF8-CCC7AB6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45E-EFA8-417D-A48D-199A796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83BF-5042-460C-8023-0D8BDC3D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990720" y="464832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0" y="548640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2819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to Make a Good Data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762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971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ve th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971800" y="1219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ffect of the (IV) on the (D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0" y="1676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895480" y="18288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left colu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-units of measurement if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971800" y="35812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iddle colum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units of measurement if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895480" y="2666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 go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2971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als go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819520" y="4110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last column 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743200" y="4648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rials together 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by the #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"/>
          <p:cNvSpPr/>
          <p:nvPr/>
        </p:nvSpPr>
        <p:spPr>
          <a:xfrm>
            <a:off x="2819520" y="10666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mmary Statement:  Why is it important to have a good data 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0" y="1600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895480" y="1676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st column 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74320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highest data point and the lowest dat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to Make a Good Data Table,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609480"/>
            <a:ext cx="891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____________________ on 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828800"/>
          <a:ext cx="9144000" cy="4221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2440"/>
                <a:gridCol w="1524240"/>
                <a:gridCol w="1523880"/>
              </a:tblGrid>
              <a:tr h="712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: 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:  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ienc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ke a data table for the data below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ach person had 3 trials.  Include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= Height of person throwing free th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:  6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5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0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 = # of free throws made in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 of Measurement: # of baskets ma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(each person tried 3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6 ft made 5, then 7 and then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5 ½ ft made 6, then 4, and then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5 ft made 2, then 4, and th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MSj00746720000[1].wav" descr=""/>
          <p:cNvPicPr/>
          <p:nvPr/>
        </p:nvPicPr>
        <p:blipFill>
          <a:blip r:embed="rId1"/>
          <a:stretch/>
        </p:blipFill>
        <p:spPr>
          <a:xfrm>
            <a:off x="80773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krose\Local Settings\Temporary Internet Files\Content.IE5\9SLX7TH3\MMAG00422_0000[1].gif"/>
          <p:cNvPicPr/>
          <p:nvPr/>
        </p:nvPicPr>
        <p:blipFill>
          <a:blip r:embed="rId2"/>
          <a:stretch/>
        </p:blipFill>
        <p:spPr>
          <a:xfrm>
            <a:off x="6553080" y="380880"/>
            <a:ext cx="2286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1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1600200"/>
          <a:ext cx="9144000" cy="45054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5680"/>
                <a:gridCol w="1522440"/>
                <a:gridCol w="1523880"/>
              </a:tblGrid>
              <a:tr h="1462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of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ree Throws Made in 2 minu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# of baskets ma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30"/>
          <p:cNvSpPr/>
          <p:nvPr/>
        </p:nvSpPr>
        <p:spPr>
          <a:xfrm>
            <a:off x="0" y="838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ffect of Height of Person on Number of Free Throw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8:01:08Z</dcterms:created>
  <dc:creator>itsuser</dc:creator>
  <dc:description/>
  <dc:language>en-US</dc:language>
  <cp:lastModifiedBy>Jean Kavanagh</cp:lastModifiedBy>
  <dcterms:modified xsi:type="dcterms:W3CDTF">2009-09-25T22:31:22Z</dcterms:modified>
  <cp:revision>22</cp:revision>
  <dc:subject/>
  <dc:title>Slide 1</dc:title>
</cp:coreProperties>
</file>